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677-3EE2-4167-99BD-641B7A23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5A0-994A-4D73-9136-5BE1045D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BDD-8286-46E4-B603-1A13BA1A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28A9-89EE-473C-8D66-61948B05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B38-EC1D-4EDC-B608-F8518C50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734-6FF0-4A40-9259-911B1E0E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300-79F6-4525-A0C4-5F0BDC64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9AC-6932-4FBE-8BA0-A0F527F3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2F2-F77E-4344-8D89-1B3BD124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9786-46C1-46F8-AFA6-C8949B53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9CD-5B9F-44FC-ACAD-45359482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382-A5B0-419F-BBC1-3685C99D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3163-59A0-4F56-A1E5-8930A8A9A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pso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30240" y="404640"/>
            <a:ext cx="908352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211400" y="92160"/>
            <a:ext cx="671328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371600" y="122400"/>
            <a:ext cx="640080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371600" y="1401840"/>
            <a:ext cx="640080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636480" y="725400"/>
            <a:ext cx="797400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152280" y="538200"/>
            <a:ext cx="879012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838080" y="11160"/>
            <a:ext cx="739152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52280" y="771480"/>
            <a:ext cx="883944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609480" y="23760"/>
            <a:ext cx="792504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5800" y="1981080"/>
            <a:ext cx="769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Office of Instructional Techn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10-222-16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04920" y="6172200"/>
            <a:ext cx="85341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80880" y="624852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 from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pso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8:02:20Z</dcterms:created>
  <dc:creator>Installer</dc:creator>
  <dc:description/>
  <dc:language>en-US</dc:language>
  <cp:lastModifiedBy>JSchnepp</cp:lastModifiedBy>
  <dcterms:modified xsi:type="dcterms:W3CDTF">2010-09-23T16:06:54Z</dcterms:modified>
  <cp:revision>6</cp:revision>
  <dc:subject/>
  <dc:title>Slide 1</dc:title>
</cp:coreProperties>
</file>